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9A0C2-CE31-4B6E-9087-E2191E871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445A5-245B-4276-BF33-9DAEA77C3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56F82-97E4-43E4-B197-2078A9C34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26DBB-A944-430B-89E1-F0B25E1C7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64081-861B-40D0-8DCD-9BF845E9A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861C8-62F3-4980-8231-678F6052D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B236D-76FD-47F2-A24D-4B97A268D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52A09-10A3-4F56-9D7B-973B24E16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E4E3F-1D53-4F7E-A23E-47D0104ED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3E4B1-FC90-4B83-95CB-5661683F1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066D8-C1F7-4B41-B7F6-448C84C1C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15F44-1966-4110-8F52-5C3DB0748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120F2-A068-41AA-96DB-9230B126FB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medf.kg.ac.rs/" TargetMode="Externa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Logotip Medicinski monohroamtski"/>
          <p:cNvPicPr/>
          <p:nvPr/>
        </p:nvPicPr>
        <p:blipFill>
          <a:blip r:embed="rId1"/>
          <a:stretch/>
        </p:blipFill>
        <p:spPr>
          <a:xfrm>
            <a:off x="3780000" y="260280"/>
            <a:ext cx="1628640" cy="223200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3"/>
          <p:cNvSpPr/>
          <p:nvPr/>
        </p:nvSpPr>
        <p:spPr>
          <a:xfrm>
            <a:off x="539640" y="2637720"/>
            <a:ext cx="80647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грисане академске студије стоматологије</a:t>
            </a:r>
            <a:br>
              <a:rPr sz="2800"/>
            </a:br>
            <a:br>
              <a:rPr sz="2800"/>
            </a:br>
            <a:r>
              <a:rPr b="1" lang="sr-C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БО9: Стоматолошки материја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колска 2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ц. др Мари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јајл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ви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1"/>
          <p:cNvSpPr/>
          <p:nvPr/>
        </p:nvSpPr>
        <p:spPr>
          <a:xfrm>
            <a:off x="0" y="3420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од у науку о стоматолошким материјалим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239840" y="29462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"/>
          <p:cNvSpPr/>
          <p:nvPr/>
        </p:nvSpPr>
        <p:spPr>
          <a:xfrm>
            <a:off x="395280" y="1416960"/>
            <a:ext cx="84247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ука о стоматолошким материјалима обухват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став и својства материја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хнологију ра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ракцију са окружење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већину стоматолошких материјала окружење је биолошки медијум, па су захтеви који они треба да испуне врло строг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1"/>
          <p:cNvSpPr/>
          <p:nvPr/>
        </p:nvSpPr>
        <p:spPr>
          <a:xfrm>
            <a:off x="0" y="3420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од у науку о стоматолошким материјалим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39840" y="29462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1"/>
          <p:cNvSpPr/>
          <p:nvPr/>
        </p:nvSpPr>
        <p:spPr>
          <a:xfrm>
            <a:off x="395280" y="1774080"/>
            <a:ext cx="84247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оматолошки материјали су велика и значајна област медицинских средста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ISO стандарду, стоматолошки материјали се дефинишу као материјали или комбинација више материјала припремљених за примену у стоматологији и/или пратећим технологијам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1"/>
          <p:cNvSpPr/>
          <p:nvPr/>
        </p:nvSpPr>
        <p:spPr>
          <a:xfrm>
            <a:off x="0" y="3420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од у науку о стоматолошким материјалим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239840" y="29462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"/>
          <p:cNvSpPr/>
          <p:nvPr/>
        </p:nvSpPr>
        <p:spPr>
          <a:xfrm>
            <a:off x="395280" y="1558080"/>
            <a:ext cx="84247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окомпатибилнос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токсичнос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смеју иритирати орална и друга ткива, не смеју узроковати алергијске реакције и не смеју бити мутагени и канцерогени.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1"/>
          <p:cNvSpPr/>
          <p:nvPr/>
        </p:nvSpPr>
        <p:spPr>
          <a:xfrm>
            <a:off x="0" y="3420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ела стоматолошких материјал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239840" y="29462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"/>
          <p:cNvSpPr/>
          <p:nvPr/>
        </p:nvSpPr>
        <p:spPr>
          <a:xfrm>
            <a:off x="108000" y="1581480"/>
            <a:ext cx="9036000" cy="42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А - Према природи контакта (</a:t>
            </a:r>
            <a:r>
              <a:rPr b="1" lang="sr-Latn-CS" sz="28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ISO</a:t>
            </a:r>
            <a:r>
              <a:rPr b="1" lang="sr-CS" sz="28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 7405:1997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2999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тип 1</a:t>
            </a:r>
            <a:r>
              <a:rPr b="0" lang="sr-CS" sz="28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: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атеријали који не долазе у контакт са пацијентом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2999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тип 2</a:t>
            </a:r>
            <a:r>
              <a:rPr b="0" lang="sr-CS" sz="28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: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атеријали који долазе у површински контакт са кожом, оралном слузокожом и зубим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2999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тип 3</a:t>
            </a:r>
            <a:r>
              <a:rPr b="0" lang="sr-CS" sz="28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: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атеријали који продиру у оралну слузокожу, тврда зубна ткива и пулпу зуб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2999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тип 4</a:t>
            </a:r>
            <a:r>
              <a:rPr b="0" lang="sr-CS" sz="28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: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атеријали за имплан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1"/>
          <p:cNvSpPr/>
          <p:nvPr/>
        </p:nvSpPr>
        <p:spPr>
          <a:xfrm>
            <a:off x="0" y="3420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ела стоматолошких материјал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239840" y="29462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1"/>
          <p:cNvSpPr/>
          <p:nvPr/>
        </p:nvSpPr>
        <p:spPr>
          <a:xfrm>
            <a:off x="108000" y="1700280"/>
            <a:ext cx="9036000" cy="23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Б - Према времену трајања контакта (</a:t>
            </a:r>
            <a:r>
              <a:rPr b="1" lang="sr-Latn-CS" sz="28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MDD </a:t>
            </a:r>
            <a:r>
              <a:rPr b="1" lang="sr-CS" sz="28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93/42 </a:t>
            </a:r>
            <a:r>
              <a:rPr b="1" lang="sr-Latn-CS" sz="28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EU</a:t>
            </a:r>
            <a:r>
              <a:rPr b="1" lang="sr-CS" sz="28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2999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привремени материјали</a:t>
            </a:r>
            <a:r>
              <a:rPr b="1" lang="sr-CS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&lt; 60 мин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2999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краткотрајни материјали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&lt; 30 дан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2999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дуготрајни материјали</a:t>
            </a:r>
            <a:r>
              <a:rPr b="1" lang="sr-CS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&gt; 30 дан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1"/>
          <p:cNvSpPr/>
          <p:nvPr/>
        </p:nvSpPr>
        <p:spPr>
          <a:xfrm>
            <a:off x="0" y="3420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ела стоматолошких материјал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239840" y="29462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1"/>
          <p:cNvSpPr/>
          <p:nvPr/>
        </p:nvSpPr>
        <p:spPr>
          <a:xfrm>
            <a:off x="108000" y="1558800"/>
            <a:ext cx="9036000" cy="48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В - Према намени</a:t>
            </a:r>
            <a:r>
              <a:rPr b="1" lang="sr-CS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O/TR</a:t>
            </a: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05:1948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тип 1</a:t>
            </a:r>
            <a:r>
              <a:rPr b="0" lang="sr-CS" sz="28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: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есторативни материјал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тип 2</a:t>
            </a:r>
            <a:r>
              <a:rPr b="0" lang="sr-CS" sz="28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: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отетски материјал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тип 3</a:t>
            </a:r>
            <a:r>
              <a:rPr b="0" lang="sr-CS" sz="28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: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атеријали за ендодонцију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тип 4</a:t>
            </a:r>
            <a:r>
              <a:rPr b="0" lang="sr-CS" sz="28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: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атеријали за пародонтологију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тип 5</a:t>
            </a:r>
            <a:r>
              <a:rPr b="0" lang="sr-CS" sz="28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: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ртодонтски материјал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тип 6</a:t>
            </a:r>
            <a:r>
              <a:rPr b="0" lang="sr-CS" sz="28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: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хируршки материјал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тип 7</a:t>
            </a:r>
            <a:r>
              <a:rPr b="0" lang="sr-CS" sz="28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: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атеријали за профилакс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1"/>
          <p:cNvSpPr/>
          <p:nvPr/>
        </p:nvSpPr>
        <p:spPr>
          <a:xfrm>
            <a:off x="0" y="3420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ела стоматолошких материјал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239840" y="29462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108000" y="1772640"/>
            <a:ext cx="9036000" cy="44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Г - Према ризику за пацијента (</a:t>
            </a:r>
            <a:r>
              <a:rPr b="1" lang="sr-Latn-CS" sz="28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MDD</a:t>
            </a:r>
            <a:r>
              <a:rPr b="1" lang="sr-CS" sz="28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 93/42 </a:t>
            </a:r>
            <a:r>
              <a:rPr b="1" lang="sr-Latn-CS" sz="28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EEZ</a:t>
            </a:r>
            <a:r>
              <a:rPr b="1" lang="sr-CS" sz="28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ријали класе </a:t>
            </a:r>
            <a:r>
              <a:rPr b="1" lang="sr-Latn-CS" sz="28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ријали класе </a:t>
            </a:r>
            <a:r>
              <a:rPr b="1" lang="sr-Latn-CS" sz="28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I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ријали класе </a:t>
            </a:r>
            <a:r>
              <a:rPr b="1" lang="sr-Latn-CS" sz="28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II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ријали класе </a:t>
            </a:r>
            <a:r>
              <a:rPr b="1" lang="sr-Latn-CS" sz="28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I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1"/>
          <p:cNvSpPr/>
          <p:nvPr/>
        </p:nvSpPr>
        <p:spPr>
          <a:xfrm>
            <a:off x="0" y="3420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ела стоматолошких материјал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239840" y="29462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1"/>
          <p:cNvSpPr/>
          <p:nvPr/>
        </p:nvSpPr>
        <p:spPr>
          <a:xfrm>
            <a:off x="108000" y="1772640"/>
            <a:ext cx="9036000" cy="44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Д - Према биолошкој прихватљив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отолерантни материјал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оинертни материјал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ореактивни материјал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оадхезивни материјал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1"/>
          <p:cNvSpPr/>
          <p:nvPr/>
        </p:nvSpPr>
        <p:spPr>
          <a:xfrm>
            <a:off x="0" y="3420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ојства стоматолошких материјал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239840" y="29462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"/>
          <p:cNvSpPr/>
          <p:nvPr/>
        </p:nvSpPr>
        <p:spPr>
          <a:xfrm>
            <a:off x="0" y="3066840"/>
            <a:ext cx="903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ојства стоматолошких материјала последица су хемијског састава и просторног распореда атома.</a:t>
            </a:r>
            <a:r>
              <a:rPr b="1" lang="sr-CS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Резултат слика за kristalna resetka"/>
          <p:cNvPicPr/>
          <p:nvPr/>
        </p:nvPicPr>
        <p:blipFill>
          <a:blip r:embed="rId1"/>
          <a:stretch/>
        </p:blipFill>
        <p:spPr>
          <a:xfrm>
            <a:off x="6300720" y="3716280"/>
            <a:ext cx="2381400" cy="255276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1"/>
          <p:cNvSpPr/>
          <p:nvPr/>
        </p:nvSpPr>
        <p:spPr>
          <a:xfrm>
            <a:off x="250920" y="5102280"/>
            <a:ext cx="2519280" cy="459720"/>
          </a:xfrm>
          <a:prstGeom prst="rect">
            <a:avLst/>
          </a:prstGeom>
          <a:noFill/>
          <a:ln w="381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стална грађ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"/>
          <p:cNvSpPr/>
          <p:nvPr/>
        </p:nvSpPr>
        <p:spPr>
          <a:xfrm>
            <a:off x="3492360" y="5102280"/>
            <a:ext cx="2160720" cy="459720"/>
          </a:xfrm>
          <a:prstGeom prst="rect">
            <a:avLst/>
          </a:prstGeom>
          <a:noFill/>
          <a:ln w="381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морфна грађ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"/>
          <p:cNvSpPr/>
          <p:nvPr/>
        </p:nvSpPr>
        <p:spPr>
          <a:xfrm>
            <a:off x="539640" y="2367000"/>
            <a:ext cx="1871640" cy="459720"/>
          </a:xfrm>
          <a:prstGeom prst="rect">
            <a:avLst/>
          </a:prstGeom>
          <a:noFill/>
          <a:ln w="381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ластичн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"/>
          <p:cNvSpPr/>
          <p:nvPr/>
        </p:nvSpPr>
        <p:spPr>
          <a:xfrm>
            <a:off x="4643280" y="2367000"/>
            <a:ext cx="2233800" cy="459720"/>
          </a:xfrm>
          <a:prstGeom prst="rect">
            <a:avLst/>
          </a:prstGeom>
          <a:noFill/>
          <a:ln w="381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одљив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"/>
          <p:cNvSpPr/>
          <p:nvPr/>
        </p:nvSpPr>
        <p:spPr>
          <a:xfrm>
            <a:off x="2916360" y="1575000"/>
            <a:ext cx="1439640" cy="459720"/>
          </a:xfrm>
          <a:prstGeom prst="rect">
            <a:avLst/>
          </a:prstGeom>
          <a:noFill/>
          <a:ln w="381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врстоћ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"/>
          <p:cNvSpPr/>
          <p:nvPr/>
        </p:nvSpPr>
        <p:spPr>
          <a:xfrm>
            <a:off x="7451640" y="1862280"/>
            <a:ext cx="505080" cy="459720"/>
          </a:xfrm>
          <a:prstGeom prst="rect">
            <a:avLst/>
          </a:prstGeom>
          <a:noFill/>
          <a:ln w="381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1"/>
          <p:cNvSpPr/>
          <p:nvPr/>
        </p:nvSpPr>
        <p:spPr>
          <a:xfrm>
            <a:off x="0" y="3420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ојства стоматолошких материјал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239840" y="29462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1"/>
          <p:cNvSpPr/>
          <p:nvPr/>
        </p:nvSpPr>
        <p:spPr>
          <a:xfrm>
            <a:off x="0" y="1116000"/>
            <a:ext cx="9036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матолошки материјал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треба да издрже утицај окружењ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пературне варијације (од 0 до 70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С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мене ацидитета (од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Н 2 до рН 11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лике мастикаторне сил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1"/>
          <p:cNvSpPr/>
          <p:nvPr/>
        </p:nvSpPr>
        <p:spPr>
          <a:xfrm>
            <a:off x="900000" y="4383720"/>
            <a:ext cx="4967280" cy="1236600"/>
          </a:xfrm>
          <a:prstGeom prst="rect">
            <a:avLst/>
          </a:prstGeom>
          <a:solidFill>
            <a:srgbClr val="4f81b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743040" indent="-28584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лектрохемијски постојан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имензионално стабилни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а не мењају бој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443640" y="2997360"/>
            <a:ext cx="1152720" cy="1942920"/>
          </a:xfrm>
          <a:custGeom>
            <a:avLst/>
            <a:gdLst>
              <a:gd name="textAreaLeft" fmla="*/ 154440 w 1152720"/>
              <a:gd name="textAreaRight" fmla="*/ 998280 w 1152720"/>
              <a:gd name="textAreaTop" fmla="*/ 339840 h 1942920"/>
              <a:gd name="textAreaBottom" fmla="*/ 1408680 h 19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1"/>
          <p:cNvSpPr/>
          <p:nvPr/>
        </p:nvSpPr>
        <p:spPr>
          <a:xfrm>
            <a:off x="179280" y="404280"/>
            <a:ext cx="8640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мет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ОМАТОЛОШКИ МАТЕРИЈА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"/>
          <p:cNvSpPr/>
          <p:nvPr/>
        </p:nvSpPr>
        <p:spPr>
          <a:xfrm>
            <a:off x="179280" y="1950120"/>
            <a:ext cx="8785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мет се вреднује са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ЕСПБ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дељно има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часа активне наставе (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час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едавањ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1 час рада у малој групи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3"/>
          <p:cNvSpPr/>
          <p:nvPr/>
        </p:nvSpPr>
        <p:spPr>
          <a:xfrm>
            <a:off x="252360" y="4149720"/>
            <a:ext cx="871236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ЦЕЊИВАЊ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удент савладав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пре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 по модулима. Оцена је еквивалентна броју освојених пое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"/>
          <p:cNvSpPr/>
          <p:nvPr/>
        </p:nvSpPr>
        <p:spPr>
          <a:xfrm>
            <a:off x="0" y="3420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бор стоматолошких материјал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239840" y="29462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1"/>
          <p:cNvSpPr/>
          <p:nvPr/>
        </p:nvSpPr>
        <p:spPr>
          <a:xfrm>
            <a:off x="2916360" y="5607720"/>
            <a:ext cx="3457440" cy="474840"/>
          </a:xfrm>
          <a:prstGeom prst="rect">
            <a:avLst/>
          </a:prstGeom>
          <a:solidFill>
            <a:srgbClr val="4f81b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743040" indent="-28584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збор материја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"/>
          <p:cNvSpPr/>
          <p:nvPr/>
        </p:nvSpPr>
        <p:spPr>
          <a:xfrm>
            <a:off x="3203640" y="1285920"/>
            <a:ext cx="2663640" cy="459720"/>
          </a:xfrm>
          <a:prstGeom prst="rect">
            <a:avLst/>
          </a:prstGeom>
          <a:noFill/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иза пробле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"/>
          <p:cNvSpPr/>
          <p:nvPr/>
        </p:nvSpPr>
        <p:spPr>
          <a:xfrm>
            <a:off x="250920" y="2438280"/>
            <a:ext cx="3673440" cy="825480"/>
          </a:xfrm>
          <a:prstGeom prst="rect">
            <a:avLst/>
          </a:prstGeom>
          <a:noFill/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ојства која с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хтевају од материја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"/>
          <p:cNvSpPr/>
          <p:nvPr/>
        </p:nvSpPr>
        <p:spPr>
          <a:xfrm>
            <a:off x="5148360" y="2438280"/>
            <a:ext cx="3671640" cy="825480"/>
          </a:xfrm>
          <a:prstGeom prst="rect">
            <a:avLst/>
          </a:prstGeom>
          <a:noFill/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положиви материјали и њихова свој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"/>
          <p:cNvSpPr/>
          <p:nvPr/>
        </p:nvSpPr>
        <p:spPr>
          <a:xfrm>
            <a:off x="1476360" y="4167000"/>
            <a:ext cx="6481800" cy="825480"/>
          </a:xfrm>
          <a:prstGeom prst="rect">
            <a:avLst/>
          </a:prstGeom>
          <a:noFill/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еђење својстава која с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хтевају и својстава расположивих материја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3203640" y="1844640"/>
            <a:ext cx="50472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987640" y="3357720"/>
            <a:ext cx="43200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292720" y="1844640"/>
            <a:ext cx="43164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5580000" y="3357720"/>
            <a:ext cx="50472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1"/>
          <p:cNvSpPr/>
          <p:nvPr/>
        </p:nvSpPr>
        <p:spPr>
          <a:xfrm>
            <a:off x="0" y="3420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бор стоматолошких материјал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239840" y="29462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1"/>
          <p:cNvSpPr/>
          <p:nvPr/>
        </p:nvSpPr>
        <p:spPr>
          <a:xfrm>
            <a:off x="250920" y="1988640"/>
            <a:ext cx="8713800" cy="38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ts val="2999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лиминарна оцена вредности стоматолошких материјала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оноси се на основу резултата клиничких и лабораторијских тестова и њиховог поређења са референтним вредностима које су наведене у националним и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O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тандардим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2999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2999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ачна оцена вредности једног материјала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оноси се након одређеног времена клиничке примен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2999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2999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"/>
          <p:cNvSpPr/>
          <p:nvPr/>
        </p:nvSpPr>
        <p:spPr>
          <a:xfrm>
            <a:off x="0" y="3420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бор стоматолошких материјал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239840" y="29462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1"/>
          <p:cNvSpPr/>
          <p:nvPr/>
        </p:nvSpPr>
        <p:spPr>
          <a:xfrm>
            <a:off x="179280" y="2034360"/>
            <a:ext cx="8713800" cy="35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ts val="2999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аки стоматолошки материјал који се пушта у промет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ра бити регистрован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Регистрацију обавља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ционална агенција за лекове и медицинска сред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извођач је дужан да на захтев корисника достави податке о безбедности материјала и безбедности у раду са тим материјалима (опште и физичке карактеристике, токсиколошка својства, начин транспорта, заштита особља итд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1"/>
          <p:cNvSpPr/>
          <p:nvPr/>
        </p:nvSpPr>
        <p:spPr>
          <a:xfrm>
            <a:off x="0" y="3420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бор стоматолошких материјал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239840" y="29462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1"/>
          <p:cNvSpPr/>
          <p:nvPr/>
        </p:nvSpPr>
        <p:spPr>
          <a:xfrm>
            <a:off x="179280" y="4626000"/>
            <a:ext cx="871380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DK</a:t>
            </a:r>
            <a:r>
              <a:rPr b="1" lang="sr-Latn-C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p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законом прописана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скимална дозвољена концентрација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ријала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ваздуху радног простора (у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pm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ли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g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sr-Latn-C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то као краткотрајна и средња дневна експозициј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"/>
          <p:cNvSpPr/>
          <p:nvPr/>
        </p:nvSpPr>
        <p:spPr>
          <a:xfrm>
            <a:off x="179280" y="1542960"/>
            <a:ext cx="87138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ки елементи који улазе у састав стоматолошких материјала познати су као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ксични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тако да могу деловати као иритирајуће, алергогене, мутагене тератогене или канцерогене материје. Нарочито су опасне у току технолошке припреме, када се појављују у виду испарења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топљењу легуре), прашине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i и Cd при обради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или течности (метакрилат акрилне киселине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1"/>
          <p:cNvSpPr/>
          <p:nvPr/>
        </p:nvSpPr>
        <p:spPr>
          <a:xfrm>
            <a:off x="0" y="-720"/>
            <a:ext cx="914400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инуирано праћење стоматолошких материјала после регистрације </a:t>
            </a:r>
            <a:br>
              <a:rPr sz="3200"/>
            </a:b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вигиланца 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39840" y="29462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"/>
          <p:cNvSpPr/>
          <p:nvPr/>
        </p:nvSpPr>
        <p:spPr>
          <a:xfrm>
            <a:off x="179280" y="3282840"/>
            <a:ext cx="87138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оз спонтано пријављивање нежељених реакција на медицинска средства врше послове организованог и континуираног праћења нежељених реакција медицинских средстав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упљањем и проценом пријава здравствених радника о нежељеним  </a:t>
            </a:r>
            <a:br>
              <a:rPr sz="2000"/>
            </a:b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кцијама у току примене медицинског средства код пацијент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јављивањем нежељених реакција у току клиничких испитивањ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ценом периодичних извештаја о нежељеним реакцијама на медицинска средства у постмаркетиншком период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"/>
          <p:cNvSpPr/>
          <p:nvPr/>
        </p:nvSpPr>
        <p:spPr>
          <a:xfrm>
            <a:off x="179280" y="1698480"/>
            <a:ext cx="871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ди континуираног праћења нежељених дејстава медицинских средстава установљен је Систем за вигиланцу медицинских средстава (</a:t>
            </a:r>
            <a:r>
              <a:rPr b="0" i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ui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i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s –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dical Devices Vigilance System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1"/>
          <p:cNvSpPr/>
          <p:nvPr/>
        </p:nvSpPr>
        <p:spPr>
          <a:xfrm>
            <a:off x="0" y="5166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ој стандарда за стоматолошке материјал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239840" y="29462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1"/>
          <p:cNvSpPr/>
          <p:nvPr/>
        </p:nvSpPr>
        <p:spPr>
          <a:xfrm>
            <a:off x="179280" y="1479960"/>
            <a:ext cx="87854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19.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одине основана је у Америци прва научна институција која се бавила денталним материјали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28.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одине основано америчко удружење стоматолога као истраживачка институција одговорна за денталне материјал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36.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одине основано удружење стоматолога Аустрал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46.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одине у Југославији је основан Савезни завод за стандардизацију који се бави доношењем стандарда из разних области или превођењем ISO стандарда у национални стандар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1"/>
          <p:cNvSpPr/>
          <p:nvPr/>
        </p:nvSpPr>
        <p:spPr>
          <a:xfrm>
            <a:off x="0" y="5166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ој стандарда за стоматолошке материјал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239840" y="29462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1"/>
          <p:cNvSpPr/>
          <p:nvPr/>
        </p:nvSpPr>
        <p:spPr>
          <a:xfrm>
            <a:off x="179280" y="1514880"/>
            <a:ext cx="8713800" cy="41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66.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одине Основан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 Савет за денталне материјале и средства одговоран за развој стандард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69.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одине основан је Институт за стандардизовање, тестирање и сертификовање денталних материјала у скандинавским земља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76.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дине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САД-у су донесени амандмани којима се проширују овлашћења Америчке агенције за храну и лекове (</a:t>
            </a:r>
            <a:r>
              <a:rPr b="0" i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DA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у циљу контроле и заштите становништва од инфективсних и ризичних стоматолошких произ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1"/>
          <p:cNvSpPr/>
          <p:nvPr/>
        </p:nvSpPr>
        <p:spPr>
          <a:xfrm>
            <a:off x="0" y="5166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ој стандарда за стоматолошке материјал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239840" y="29462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1"/>
          <p:cNvSpPr/>
          <p:nvPr/>
        </p:nvSpPr>
        <p:spPr>
          <a:xfrm>
            <a:off x="179280" y="1695960"/>
            <a:ext cx="87138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уго се развијала тежња да се постојећи национални стандарди институционализују и подигну на интернационални нив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ралелна активност Интернационалне федерације стоматолога и Интернационалне организације за стандардизацију је адаптацијом неких националних стандарда резултирала ISO стандардим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O је интернационална невладина организација чији је делокруг рада развој интернационалних стандард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1"/>
          <p:cNvSpPr/>
          <p:nvPr/>
        </p:nvSpPr>
        <p:spPr>
          <a:xfrm>
            <a:off x="0" y="5166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рективе Европске Униј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239840" y="29462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1"/>
          <p:cNvSpPr/>
          <p:nvPr/>
        </p:nvSpPr>
        <p:spPr>
          <a:xfrm>
            <a:off x="250920" y="1625760"/>
            <a:ext cx="8713800" cy="40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ректива за медицинска сред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оси се на сва медицинска (и стоматолошка) средства намењена дијагностици, превенцији, мониторингу и лечењу болести, повреда и деформитета, као и надокнађивању изгубљених делова тела (1993. година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99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ма степену ризика за људски организам директива сврстава сва медицинска средства у 4 класе: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, IIa, IIb, II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1"/>
          <p:cNvSpPr/>
          <p:nvPr/>
        </p:nvSpPr>
        <p:spPr>
          <a:xfrm>
            <a:off x="0" y="76392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рективе Европске Униј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ректива за медицинска сред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239840" y="29462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1"/>
          <p:cNvSpPr/>
          <p:nvPr/>
        </p:nvSpPr>
        <p:spPr>
          <a:xfrm>
            <a:off x="179280" y="2637000"/>
            <a:ext cx="8713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1"/>
          <p:cNvSpPr/>
          <p:nvPr/>
        </p:nvSpPr>
        <p:spPr>
          <a:xfrm>
            <a:off x="179280" y="2634840"/>
            <a:ext cx="8713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Класа I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Сва неинвазивна и неактивна медицинска средства која не продиру у људски организам и сва нехируршка инвазивна средства за привремену употребу (мање од 60 минута). Ови производи представљају мали ризик за пацијент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1"/>
          <p:cNvSpPr/>
          <p:nvPr/>
        </p:nvSpPr>
        <p:spPr>
          <a:xfrm>
            <a:off x="179280" y="4762440"/>
            <a:ext cx="878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Класа IIa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Сва неризична активна терапијска или дијагностичка и хируршка инвазивна средства за привремено или кратко време употребе (до 30 дана). Ово су производи средњег степена ризи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СТРУКТУРА ПРЕДМЕТА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34920" y="1413000"/>
          <a:ext cx="9001080" cy="5102280"/>
        </p:xfrm>
        <a:graphic>
          <a:graphicData uri="http://schemas.openxmlformats.org/drawingml/2006/table">
            <a:tbl>
              <a:tblPr/>
              <a:tblGrid>
                <a:gridCol w="720720"/>
                <a:gridCol w="2087640"/>
                <a:gridCol w="865080"/>
                <a:gridCol w="1150920"/>
                <a:gridCol w="936720"/>
                <a:gridCol w="3240000"/>
              </a:tblGrid>
              <a:tr h="9349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дул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зив модул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дељ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авања недељно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жбе</a:t>
                      </a:r>
                      <a:br>
                        <a:rPr sz="1500"/>
                      </a:br>
                      <a:r>
                        <a:rPr b="1" lang="sr-C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дељно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ставник-руководилац модул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10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новна својства стоматолошких материјал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ф. др Гордана Радић</a:t>
                      </a:r>
                      <a:r>
                        <a:rPr b="0" lang="en-A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70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оматолошки мат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</a:t>
                      </a: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ијали за рестаурацију зуба и материјали који се користе у ендодонциј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ц. др Милица Поповић</a:t>
                      </a:r>
                      <a:r>
                        <a:rPr b="0" lang="en-A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60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тетски материјал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ф. др Драгослав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менковић</a:t>
                      </a:r>
                      <a:r>
                        <a:rPr b="0" lang="en-A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280">
                <a:tc gridSpan="6"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Ʃ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+15=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1"/>
          <p:cNvSpPr/>
          <p:nvPr/>
        </p:nvSpPr>
        <p:spPr>
          <a:xfrm>
            <a:off x="0" y="76392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рективе Европске Униј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ректива за медицинска сред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239840" y="29462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1"/>
          <p:cNvSpPr/>
          <p:nvPr/>
        </p:nvSpPr>
        <p:spPr>
          <a:xfrm>
            <a:off x="179280" y="2637000"/>
            <a:ext cx="8713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1"/>
          <p:cNvSpPr/>
          <p:nvPr/>
        </p:nvSpPr>
        <p:spPr>
          <a:xfrm>
            <a:off x="179280" y="2634840"/>
            <a:ext cx="8713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Класа IIb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Сва ризична активна терапијска или дијагностичка и хируршка инвазивна средства за привремену или краткотрајну употребу и хируршка инвазивна средства за дуготрајну употребу или имплантацију. Ово су производи вишег степена ризи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1"/>
          <p:cNvSpPr/>
          <p:nvPr/>
        </p:nvSpPr>
        <p:spPr>
          <a:xfrm>
            <a:off x="179280" y="4396320"/>
            <a:ext cx="8785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Класа III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Сва средства која имају контакт са кардиоваскуларним или централним нервним системом и сва дуготрајна инвазивна или имплантациона средства која имају биолошки ефекат или их тело апсорбује. Ово су производи високог степена ризи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1"/>
          <p:cNvSpPr/>
          <p:nvPr/>
        </p:nvSpPr>
        <p:spPr>
          <a:xfrm>
            <a:off x="0" y="100692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ректива за медицинска сред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239840" y="29462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"/>
          <p:cNvSpPr/>
          <p:nvPr/>
        </p:nvSpPr>
        <p:spPr>
          <a:xfrm>
            <a:off x="179280" y="2637000"/>
            <a:ext cx="8713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"/>
          <p:cNvSpPr/>
          <p:nvPr/>
        </p:nvSpPr>
        <p:spPr>
          <a:xfrm>
            <a:off x="250920" y="2705040"/>
            <a:ext cx="87138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ма овој Директиви, сва медицинска средства, без обзира на то којој класи припадају, морају д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уне све основне захтеве за безбедн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ају одговарајућу техничку документациј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ду означена СЕ знак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1"/>
          <p:cNvSpPr/>
          <p:nvPr/>
        </p:nvSpPr>
        <p:spPr>
          <a:xfrm>
            <a:off x="250920" y="619920"/>
            <a:ext cx="871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 зна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239840" y="29462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1"/>
          <p:cNvSpPr/>
          <p:nvPr/>
        </p:nvSpPr>
        <p:spPr>
          <a:xfrm>
            <a:off x="179280" y="2637000"/>
            <a:ext cx="8713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1"/>
          <p:cNvSpPr/>
          <p:nvPr/>
        </p:nvSpPr>
        <p:spPr>
          <a:xfrm>
            <a:off x="250920" y="1591560"/>
            <a:ext cx="8713800" cy="52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 знак је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кларација</a:t>
            </a:r>
            <a:r>
              <a:rPr b="0" lang="sr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оизвођача о усклађености произода са реле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r>
              <a:rPr b="0" lang="sr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тним директивама Европске уније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све производе који се продају у земљама Европске уније CE знак је обавеза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и циљ овог знака је д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значи усклађеност производа са захтевима директив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могући да производ буде стављен у промет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могући слободну размену добара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могући повлачење неодговарајућих производа од стране купца или надлежних орган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Резултат слика за CE znak"/>
          <p:cNvPicPr/>
          <p:nvPr/>
        </p:nvPicPr>
        <p:blipFill>
          <a:blip r:embed="rId1"/>
          <a:stretch/>
        </p:blipFill>
        <p:spPr>
          <a:xfrm>
            <a:off x="6877080" y="115920"/>
            <a:ext cx="2141640" cy="12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1"/>
          <p:cNvSpPr/>
          <p:nvPr/>
        </p:nvSpPr>
        <p:spPr>
          <a:xfrm>
            <a:off x="0" y="4039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рективе СА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239840" y="29462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1"/>
          <p:cNvSpPr/>
          <p:nvPr/>
        </p:nvSpPr>
        <p:spPr>
          <a:xfrm>
            <a:off x="179280" y="2637000"/>
            <a:ext cx="8713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"/>
          <p:cNvSpPr/>
          <p:nvPr/>
        </p:nvSpPr>
        <p:spPr>
          <a:xfrm>
            <a:off x="250920" y="1335960"/>
            <a:ext cx="87138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САД агенција одговорна за регистрацију, пуштање у промет и мониторинг медицинских средстава јесте </a:t>
            </a:r>
            <a:r>
              <a:rPr b="1" i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od and drug administration (FDA)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а својим комисијама. Правна регулатива даје листу стоматолошких средстава подељених у пет груп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Део B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дијагностичка средства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рендген апарати, апарати за испитивање виталитета зуба)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Део D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протетска средства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дентални цементи, материјали за крунице и мостове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Део E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хируршка средства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инструменти за анестезију, дентални имплантанти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Део F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терапијска средства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материјали у ортопедији вилице);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Део G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различита средства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материјали за полирање, четкице за зубе).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Резултат слика за american dental association"/>
          <p:cNvPicPr/>
          <p:nvPr/>
        </p:nvPicPr>
        <p:blipFill>
          <a:blip r:embed="rId1"/>
          <a:stretch/>
        </p:blipFill>
        <p:spPr>
          <a:xfrm>
            <a:off x="6453360" y="115920"/>
            <a:ext cx="2690640" cy="107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1"/>
          <p:cNvSpPr/>
          <p:nvPr/>
        </p:nvSpPr>
        <p:spPr>
          <a:xfrm>
            <a:off x="0" y="16092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O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тандард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International Organization for Standardiza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239840" y="29462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1"/>
          <p:cNvSpPr/>
          <p:nvPr/>
        </p:nvSpPr>
        <p:spPr>
          <a:xfrm>
            <a:off x="179280" y="2637000"/>
            <a:ext cx="8713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1"/>
          <p:cNvSpPr/>
          <p:nvPr/>
        </p:nvSpPr>
        <p:spPr>
          <a:xfrm>
            <a:off x="179280" y="2774160"/>
            <a:ext cx="8713800" cy="389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иљеви међународних стандарда за квалитет (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O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9000) су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финисање квалитета производа и услуга према јединственим                 принципим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двосмислено постављање захтева за осигурање и побољшање квалитета испоручиоц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тврђивање оспособљености произвођача да трајно производи производе или даје услуге у складу са захтевима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динствено дефинисање својства производ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116000" y="1484280"/>
            <a:ext cx="712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O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тандарди стоматолошких материјал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O стандарди серије 9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1"/>
          <p:cNvSpPr/>
          <p:nvPr/>
        </p:nvSpPr>
        <p:spPr>
          <a:xfrm>
            <a:off x="0" y="16092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O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тандард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International Organization for Standardiza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239840" y="29462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1"/>
          <p:cNvSpPr/>
          <p:nvPr/>
        </p:nvSpPr>
        <p:spPr>
          <a:xfrm>
            <a:off x="179280" y="2637000"/>
            <a:ext cx="8713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1"/>
          <p:cNvSpPr/>
          <p:nvPr/>
        </p:nvSpPr>
        <p:spPr>
          <a:xfrm>
            <a:off x="179280" y="2649960"/>
            <a:ext cx="8713800" cy="31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јање интегралних система осигурања квалитет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једначавање референтних вредности величина за карактеристике које утичу на квалитет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езбеђење поновљивости испитивањ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нификација специјалне мерне и испитне опрем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динствено приказивање резултата испитивањ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99"/>
              </a:lnSpc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116000" y="1484280"/>
            <a:ext cx="712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O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тандарди стоматолошких материјал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O стандарди серије 9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1239840" y="29462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1"/>
          <p:cNvSpPr/>
          <p:nvPr/>
        </p:nvSpPr>
        <p:spPr>
          <a:xfrm>
            <a:off x="179280" y="2637000"/>
            <a:ext cx="8713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1"/>
          <p:cNvSpPr/>
          <p:nvPr/>
        </p:nvSpPr>
        <p:spPr>
          <a:xfrm>
            <a:off x="0" y="510120"/>
            <a:ext cx="91440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Добра клиничка пракса –</a:t>
            </a:r>
            <a:r>
              <a:rPr b="1" i="1" lang="sr-Latn-CS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 </a:t>
            </a:r>
            <a:r>
              <a:rPr b="1" lang="sr-Latn-CS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GCP</a:t>
            </a:r>
            <a:r>
              <a:rPr b="1" lang="sr-CS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 стандард </a:t>
            </a:r>
            <a:r>
              <a:rPr b="1" i="1" lang="sr-CS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(Good Clinical Practi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CP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 интернационални етички и научни стандард квалитета за дизајнирање, руковођење, мониторинг, записивање и извештавање о истраживањима обављеним на људим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Добра произођачка пракса - </a:t>
            </a:r>
            <a:r>
              <a:rPr b="1" lang="sr-Latn-CS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GMP</a:t>
            </a:r>
            <a:r>
              <a:rPr b="1" lang="sr-CS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 стандард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(</a:t>
            </a:r>
            <a:r>
              <a:rPr b="1" i="1" lang="sr-CS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Good manufacturing practice</a:t>
            </a:r>
            <a:r>
              <a:rPr b="1" i="1" lang="en-US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MP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тандард је део провере квалитета који обезбеђује да се производи праве и контролишу према стандардима квалитета који одговарају њиховој намен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Добра научна пракса - </a:t>
            </a:r>
            <a:r>
              <a:rPr b="1" lang="sr-Latn-CS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G</a:t>
            </a:r>
            <a:r>
              <a:rPr b="1" lang="sr-CS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S</a:t>
            </a:r>
            <a:r>
              <a:rPr b="1" lang="sr-Latn-CS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P</a:t>
            </a:r>
            <a:r>
              <a:rPr b="1" lang="sr-CS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 стандард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  </a:t>
            </a:r>
            <a:r>
              <a:rPr b="1" i="1" lang="en-US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(</a:t>
            </a:r>
            <a:r>
              <a:rPr b="1" i="1" lang="sr-CS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Good Scientific Practice</a:t>
            </a:r>
            <a:r>
              <a:rPr b="1" i="1" lang="en-US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Ѕ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ндард је интернационални стандард квалитета за дизајнирање, извођење, записивање и саопштавање резултата истраживањ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0" y="4039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менклатура медицинских средста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239840" y="29462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1"/>
          <p:cNvSpPr/>
          <p:nvPr/>
        </p:nvSpPr>
        <p:spPr>
          <a:xfrm>
            <a:off x="179280" y="2637000"/>
            <a:ext cx="8713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1"/>
          <p:cNvSpPr/>
          <p:nvPr/>
        </p:nvSpPr>
        <p:spPr>
          <a:xfrm>
            <a:off x="179280" y="1790280"/>
            <a:ext cx="8713800" cy="26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ts val="2999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MDN </a:t>
            </a:r>
            <a:r>
              <a:rPr b="0" i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Global Medical Device Nomenclature)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је свеобухватан систем интернационално препознатљивих назива медицинских средстава усаглашен са директивама ЕУ, САД и ISO стандард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2999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2999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а те номенклатуре је подељена у три нивоа: категорија, генеричке групе и типови медицинских средста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1"/>
          <p:cNvSpPr/>
          <p:nvPr/>
        </p:nvSpPr>
        <p:spPr>
          <a:xfrm>
            <a:off x="684360" y="4919400"/>
            <a:ext cx="1655640" cy="825480"/>
          </a:xfrm>
          <a:prstGeom prst="rect">
            <a:avLst/>
          </a:prstGeom>
          <a:noFill/>
          <a:ln w="381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тегорија (1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1"/>
          <p:cNvSpPr/>
          <p:nvPr/>
        </p:nvSpPr>
        <p:spPr>
          <a:xfrm>
            <a:off x="2771640" y="4919400"/>
            <a:ext cx="2376720" cy="825480"/>
          </a:xfrm>
          <a:prstGeom prst="rect">
            <a:avLst/>
          </a:prstGeom>
          <a:noFill/>
          <a:ln w="381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неричка група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0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1"/>
          <p:cNvSpPr/>
          <p:nvPr/>
        </p:nvSpPr>
        <p:spPr>
          <a:xfrm>
            <a:off x="6012000" y="4886280"/>
            <a:ext cx="1800000" cy="825480"/>
          </a:xfrm>
          <a:prstGeom prst="rect">
            <a:avLst/>
          </a:prstGeom>
          <a:noFill/>
          <a:ln w="381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0 0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1"/>
          <p:cNvSpPr/>
          <p:nvPr/>
        </p:nvSpPr>
        <p:spPr>
          <a:xfrm>
            <a:off x="5364000" y="5804280"/>
            <a:ext cx="363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бричко име медицинског средства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1"/>
          <p:cNvSpPr/>
          <p:nvPr/>
        </p:nvSpPr>
        <p:spPr>
          <a:xfrm>
            <a:off x="252360" y="588960"/>
            <a:ext cx="8783640" cy="58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ени се стичу на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а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чина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ИВНОСТ У ТОКУ НАСТАВЕ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овај начин студент може освојити до 30 поена и то тако што на последњем часу рада у малој групи извлачи 2 испитна питања из те недеље наставе, одговара на њих и у складу са показаним знањем добија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поена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ВРШНИ ТЕСТОВИ ПО МОДУЛУМА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овај начин студент може стећи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70 поена а према приложеној шеми за оцењивање по модулим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250920" y="1197000"/>
          <a:ext cx="8785080" cy="5132520"/>
        </p:xfrm>
        <a:graphic>
          <a:graphicData uri="http://schemas.openxmlformats.org/drawingml/2006/table">
            <a:tbl>
              <a:tblPr/>
              <a:tblGrid>
                <a:gridCol w="718920"/>
                <a:gridCol w="4608720"/>
                <a:gridCol w="1512720"/>
                <a:gridCol w="1152720"/>
                <a:gridCol w="792000"/>
              </a:tblGrid>
              <a:tr h="474480">
                <a:tc gridSpan="2"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ду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КСИМАЛНО ПОЕН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512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тивност у току настав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вршни тес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440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новна својства стоматолошких материјал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56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оматолошки материјали за рестаурацију зуба и материјали који се користе у ендодонциј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488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тетски материјал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8000">
                <a:tc grid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"/>
          <p:cNvSpPr/>
          <p:nvPr/>
        </p:nvSpPr>
        <p:spPr>
          <a:xfrm>
            <a:off x="179280" y="882720"/>
            <a:ext cx="8964720" cy="47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Завршна оцена се формира на следећи начин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 би студент положио предмет мора да оствари минимум 55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ена</a:t>
            </a:r>
            <a:r>
              <a:rPr b="0" lang="en-A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да положи све модул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 би положио модул студент мора да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ts val="2999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твари више од 50%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ена</a:t>
            </a:r>
            <a:r>
              <a:rPr b="0" lang="en-A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том модул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ts val="2999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твари више од 50%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ен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едвиђених за активност у настави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сваком модулу</a:t>
            </a:r>
            <a:r>
              <a:rPr b="0" lang="en-A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ts val="2999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 положи тест из тог модула, односно да има више од 50% тачних одгово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1403280" y="1557360"/>
          <a:ext cx="6048360" cy="4176720"/>
        </p:xfrm>
        <a:graphic>
          <a:graphicData uri="http://schemas.openxmlformats.org/drawingml/2006/table">
            <a:tbl>
              <a:tblPr/>
              <a:tblGrid>
                <a:gridCol w="4576680"/>
                <a:gridCol w="1471680"/>
              </a:tblGrid>
              <a:tr h="4874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рој освојених поен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цен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34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 - 5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94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 - 6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5 - 7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0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 - 8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3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5 - 9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3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5 - 10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ТЕРАТУРА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250920" y="1989000"/>
          <a:ext cx="8785080" cy="3735360"/>
        </p:xfrm>
        <a:graphic>
          <a:graphicData uri="http://schemas.openxmlformats.org/drawingml/2006/table">
            <a:tbl>
              <a:tblPr/>
              <a:tblGrid>
                <a:gridCol w="1844640"/>
                <a:gridCol w="1627200"/>
                <a:gridCol w="2236680"/>
                <a:gridCol w="1997280"/>
                <a:gridCol w="1079280"/>
              </a:tblGrid>
              <a:tr h="216000">
                <a:tc>
                  <a:txBody>
                    <a:bodyPr lIns="37440" rIns="37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ду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7440" marR="37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440" rIns="37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зив уџбени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7440" marR="37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440" rIns="37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утор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7440" marR="37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440" rIns="37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давач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7440" marR="37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440" rIns="37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иблиоте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7440" marR="37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2200">
                <a:tc>
                  <a:txBody>
                    <a:bodyPr lIns="37440" rIns="374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новна својства стоматолошких материјал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7440" marR="37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440" rIns="374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оматолошки материјали</a:t>
                      </a: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књига 1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7440" marR="37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440" rIns="374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менковић Д</a:t>
                      </a: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и сарадниц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7440" marR="37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440" rIns="374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вод за у</a:t>
                      </a: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џ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нике и наставна средства, Београд 2003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7440" marR="37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440" rIns="37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7440" marR="37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040">
                <a:tc rowSpan="4">
                  <a:txBody>
                    <a:bodyPr lIns="37440" rIns="374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оматолошки матаријали за рестаурацију зуба и материјали који се користе у ендодонцији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7440" marR="37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440" rIns="374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оматолошки материјали</a:t>
                      </a: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књига 1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7440" marR="37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440" rIns="374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менковић Д</a:t>
                      </a: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и сарадниц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7440" marR="37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440" rIns="374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вод за уџбенике и наставна средства, Београд 2003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7440" marR="37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440" rIns="37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7440" marR="37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2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7440" rIns="374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нови рестауративне стоматологиј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7440" marR="37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440" rIns="374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ивковић С</a:t>
                      </a: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Вујашковић М</a:t>
                      </a: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Пап К</a:t>
                      </a: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Грга Ђ</a:t>
                      </a: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Лукић А</a:t>
                      </a: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Теодоровић 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7440" marR="37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440" rIns="374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a Status 2009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7440" marR="37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440" rIns="37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7440" marR="37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7440" rIns="374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теријали за зубне испун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7440" marR="37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440" rIns="374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22478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раџова О., Кезеле Д.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22478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боровић Д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7440" marR="37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440" rIns="374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ниверзитет у Београду, Београд, 1997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7440" marR="37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440" rIns="37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7440" marR="37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2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7440" rIns="374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нтин адхезивна средства у стоматологиј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7440" marR="37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440" rIns="374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ивковић. С. и сар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7440" marR="37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440" rIns="374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a Status 2007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7440" marR="37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440" rIns="37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7440" marR="37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37440" rIns="374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тетски материјал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7440" marR="37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440" rIns="374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оматолошки материјали</a:t>
                      </a: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књига 1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7440" marR="37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440" rIns="374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менковић Д</a:t>
                      </a: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и сарадниц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7440" marR="37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440" rIns="374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вод за уџбенике и наставна средства, Београд 2003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7440" marR="37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440" rIns="37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7440" marR="37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Rectangle 1"/>
          <p:cNvSpPr/>
          <p:nvPr/>
        </p:nvSpPr>
        <p:spPr>
          <a:xfrm>
            <a:off x="108000" y="6020640"/>
            <a:ext cx="885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а предавања налазе се на сајт Факултета медицинских наука: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"/>
              </a:rPr>
              <a:t>www.medf.kg.ac.rs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"/>
          <p:cNvSpPr/>
          <p:nvPr/>
        </p:nvSpPr>
        <p:spPr>
          <a:xfrm>
            <a:off x="0" y="3420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од у науку о стоматолошким материјалим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239840" y="29462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"/>
          <p:cNvSpPr/>
          <p:nvPr/>
        </p:nvSpPr>
        <p:spPr>
          <a:xfrm>
            <a:off x="1547640" y="4008960"/>
            <a:ext cx="64803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рија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бор стоматолошких материјал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ојстава стоматолошких материјала 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ног руковањ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"/>
          <p:cNvSpPr/>
          <p:nvPr/>
        </p:nvSpPr>
        <p:spPr>
          <a:xfrm>
            <a:off x="2268360" y="3211920"/>
            <a:ext cx="1297080" cy="581400"/>
          </a:xfrm>
          <a:prstGeom prst="rect">
            <a:avLst/>
          </a:prstGeom>
          <a:noFill/>
          <a:ln w="381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пе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"/>
          <p:cNvSpPr/>
          <p:nvPr/>
        </p:nvSpPr>
        <p:spPr>
          <a:xfrm>
            <a:off x="4932360" y="3211920"/>
            <a:ext cx="1728720" cy="5814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успе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"/>
          <p:cNvSpPr/>
          <p:nvPr/>
        </p:nvSpPr>
        <p:spPr>
          <a:xfrm>
            <a:off x="3276720" y="1483560"/>
            <a:ext cx="23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оматоло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132000" y="2276640"/>
            <a:ext cx="503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148360" y="2276640"/>
            <a:ext cx="43164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5T13:25:39Z</dcterms:created>
  <dc:creator>Win7</dc:creator>
  <dc:description/>
  <dc:language>en-US</dc:language>
  <cp:lastModifiedBy>FullNameHere</cp:lastModifiedBy>
  <dcterms:modified xsi:type="dcterms:W3CDTF">2018-01-28T16:34:05Z</dcterms:modified>
  <cp:revision>163</cp:revision>
  <dc:subject/>
  <dc:title>Slide 1</dc:title>
</cp:coreProperties>
</file>